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080-86F7-44A8-A8E0-21166D39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B93-C724-4D23-BFF3-69B1ABB5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7FB-A9BD-4F49-8FF7-96C2D81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449-A60C-4921-84AB-EB139C8B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8EE-FC19-4C5C-937E-9EF3ABB2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BB7-629D-4674-BC45-727E6B14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DD7-6E5B-409D-9FED-C66DC92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115-ED68-4DF1-BFF4-0CE86D1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ED1-71B1-4DD7-A90D-92229D8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9C9-3C24-40E3-BA16-0956654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689-AE62-4313-81F4-A92E09C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6F3-2336-44E6-8068-02F8C9B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C95E-6026-4374-A444-717EA1A01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68360" y="620640"/>
            <a:ext cx="849636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费马原理证明反射定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国产玻璃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389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63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21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计算其阿贝数，并查出该玻璃的牌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入射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入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反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法线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水中深度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有一发光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垂直于水面，求射出水面折射线的延长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深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入射角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581120" y="4822920"/>
            <a:ext cx="6192720" cy="20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 flipV="1">
            <a:off x="3238560" y="4822920"/>
            <a:ext cx="2808360" cy="172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509840" y="482292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3238560" y="42465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3165480" y="6478560"/>
            <a:ext cx="144360" cy="14436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3"/>
          <p:cNvSpPr/>
          <p:nvPr/>
        </p:nvSpPr>
        <p:spPr>
          <a:xfrm flipV="1">
            <a:off x="3238560" y="5753160"/>
            <a:ext cx="1295280" cy="79848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4"/>
          <p:cNvSpPr/>
          <p:nvPr/>
        </p:nvSpPr>
        <p:spPr>
          <a:xfrm flipV="1">
            <a:off x="6046920" y="4225680"/>
            <a:ext cx="1676160" cy="600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238560" y="4843440"/>
            <a:ext cx="2735280" cy="98748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6046920" y="424656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5808600" y="5000760"/>
            <a:ext cx="219240" cy="77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6040440" y="4543560"/>
            <a:ext cx="284040" cy="17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2733840" y="58309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2013120" y="6550200"/>
            <a:ext cx="12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2878200" y="4822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2157480" y="482292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238560" y="43894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916360" y="4448160"/>
            <a:ext cx="36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2230560" y="5110200"/>
            <a:ext cx="10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725480" y="554184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662200" y="590076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878200" y="6526080"/>
            <a:ext cx="36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6046920" y="4822920"/>
            <a:ext cx="503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470560" y="511020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327560" y="40784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6046920" y="43178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5680" y="274680"/>
            <a:ext cx="887904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球中有两个小气泡，一个在球心，一个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径处。沿两气泡连线方向，在球的两侧观察这两个气泡，它们应在什么位置？如在水中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的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它们又应在什么位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折射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mm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, 0, 100mm, 150mm, 10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横向放大率各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一束平行光射到玻璃球上，其汇聚点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玻璃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端面为凸的半球面，半径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球心位于玻璃棒的中心轴线上。一箭头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垂直位于左端球面顶点之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垂直于玻璃棒轴线。试画出结构简图，并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箭头经玻璃棒成像在什么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个玻璃棒的垂轴放大率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物位于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凹面镜前什么位置时，可分别得到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、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、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和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549360"/>
            <a:ext cx="8496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一个透镜把物体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透镜向物体移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物体将被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薄透镜对某一物体成实像，放大率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以另一薄透镜紧贴此薄透镜，则见像向透镜方向移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放大率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两薄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束平行光入射到平凸透镜上，汇聚于透镜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。如在此透镜凸面上镀反射膜，则平行光汇聚于透镜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透镜折射率和凸面曲率半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试以两个薄透镜按下列要求组成光学系统：两透镜间距不变，物距任意而倍率不变；物距不变，两透镜间隔任意改变，倍率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块厚透镜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该透镜的焦距及基点位置。如果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像在何处？如果平行光入射时，使透镜绕一和光轴垂直的轴转动，而要求像点位置不变，问该轴安装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68360" y="549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由两薄透镜组成的对无穷远物成像的短焦距物镜，已知其焦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筒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6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后工作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系统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玻璃半球，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平面镀反射层，一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小物体放在球面顶点前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经过该玻璃半球最后成像的位置及像的虚实、正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下图所示的两透镜组成的光学系统，两透镜的基点已知，图解法求物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两透镜后的成像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258920" y="455760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66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537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66100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41760" y="45338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65400" y="453384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216160" y="4576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813720" y="456732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330200" y="4611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621240" y="455436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944800" y="45356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016600" y="4549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586480" y="454500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353960" y="4440240"/>
            <a:ext cx="570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21616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0" y="44402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339552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44680" y="444960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52908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23872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522760" y="445284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2164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965400" y="444816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68360" y="549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画出一次反射的直角棱镜、二次反射的直角棱镜、直角屋脊棱镜、五角棱镜的主截面图，并判断它们各自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详细计算列曼棱镜和列曼屋脊棱镜的展开长度。（具体结构请查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光学技术手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所示的光学测微系统，光学透镜焦距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推导其测量微小角位移原理，即反射镜上距光轴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的某点的微小线位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推导其与标尺上刻度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花岗岩"/>
          <p:cNvPicPr/>
          <p:nvPr/>
        </p:nvPicPr>
        <p:blipFill>
          <a:blip r:embed="rId1"/>
          <a:stretch/>
        </p:blipFill>
        <p:spPr>
          <a:xfrm>
            <a:off x="2050920" y="3716280"/>
            <a:ext cx="4896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68360" y="549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二平面镜系统，光线以与其中的一个镜面平行入射，经两次反射后，出射光线与另一镜面平行，求此二平面镜的夹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判断如图所示的光学系统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花岗岩"/>
          <p:cNvPicPr/>
          <p:nvPr/>
        </p:nvPicPr>
        <p:blipFill>
          <a:blip r:embed="rId1"/>
          <a:stretch/>
        </p:blipFill>
        <p:spPr>
          <a:xfrm>
            <a:off x="2700360" y="2133720"/>
            <a:ext cx="3168720" cy="2562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5178600" y="2948040"/>
            <a:ext cx="4903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3419640" y="270792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99" name="Rectangle 6"/>
          <p:cNvSpPr/>
          <p:nvPr/>
        </p:nvSpPr>
        <p:spPr>
          <a:xfrm>
            <a:off x="2700360" y="2133720"/>
            <a:ext cx="719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7"/>
          <p:cNvCxnSpPr/>
          <p:nvPr/>
        </p:nvCxnSpPr>
        <p:spPr>
          <a:xfrm flipV="1">
            <a:off x="3419280" y="240156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1" name="Text Box 8"/>
          <p:cNvSpPr/>
          <p:nvPr/>
        </p:nvSpPr>
        <p:spPr>
          <a:xfrm>
            <a:off x="3301920" y="210996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381480" y="2655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09840" y="2565360"/>
            <a:ext cx="343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156120" y="2522520"/>
            <a:ext cx="34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49600" y="240192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49:45Z</dcterms:created>
  <dc:creator>Tanqf</dc:creator>
  <dc:description/>
  <dc:language>en-US</dc:language>
  <cp:lastModifiedBy>Optics</cp:lastModifiedBy>
  <dcterms:modified xsi:type="dcterms:W3CDTF">2015-02-03T13:57:23Z</dcterms:modified>
  <cp:revision>234</cp:revision>
  <dc:subject/>
  <dc:title>实践教学调研小结及思考</dc:title>
</cp:coreProperties>
</file>